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9.jpeg" ContentType="image/jpeg"/>
  <Override PartName="/ppt/media/image11.png" ContentType="image/png"/>
  <Override PartName="/ppt/media/image7.png" ContentType="image/png"/>
  <Override PartName="/ppt/media/image1.jpeg" ContentType="image/jpeg"/>
  <Override PartName="/ppt/media/image4.gif" ContentType="image/gif"/>
  <Override PartName="/ppt/media/image6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3948-59D5-4586-86B3-5927D3018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B8C9-FC79-4F88-9A67-81987DD6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A773-36A0-4DFF-B3B9-F1E93C88D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AB29-693A-492C-980D-EC97CC826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3E0F-6DA3-43AF-B29A-BD823B1F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5546-9563-4580-94B9-79999CBA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21B5-EA41-4ECB-A211-A037EA5D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8FB9-5FAA-4BC4-9103-24C74F0A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BB3B-71D7-4131-94AB-9807477A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AB3C-563B-4BD3-A3CF-A6EE9B92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3BD2-09DB-4C59-98F5-D8D475DA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5028-63F1-4CE7-80CE-2E648A3E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4E50-EF1C-4321-AD6B-8AA95B5F31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1.png"/><Relationship Id="rId3" Type="http://schemas.openxmlformats.org/officeDocument/2006/relationships/image" Target="../media/image10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6.jpeg"/><Relationship Id="rId3" Type="http://schemas.openxmlformats.org/officeDocument/2006/relationships/image" Target="../media/image18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1250;%B9%FA%B5%D8&#892;&amp;in=8478&amp;cl=2&amp;cm=1&amp;sc=0&amp;lm=-1&amp;pn=0&amp;rn=1&amp;di=1375841852&amp;ln=184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gi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6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1    My Fam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0"/>
            <a:ext cx="9396360" cy="6858000"/>
            <a:chOff x="0" y="0"/>
            <a:chExt cx="9396360" cy="685800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396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6948360" y="4076640"/>
              <a:ext cx="243864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8028000" y="458136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8172360" y="189000"/>
              <a:ext cx="1224000" cy="21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5"/>
            <a:stretch/>
          </p:blipFill>
          <p:spPr>
            <a:xfrm>
              <a:off x="0" y="198900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6"/>
            <a:stretch/>
          </p:blipFill>
          <p:spPr>
            <a:xfrm>
              <a:off x="0" y="26028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7"/>
            <a:stretch/>
          </p:blipFill>
          <p:spPr>
            <a:xfrm rot="21399600">
              <a:off x="1906200" y="4424400"/>
              <a:ext cx="11509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8"/>
            <a:stretch/>
          </p:blipFill>
          <p:spPr>
            <a:xfrm rot="5400000">
              <a:off x="3057840" y="4291560"/>
              <a:ext cx="761760" cy="104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9"/>
            <a:stretch/>
          </p:blipFill>
          <p:spPr>
            <a:xfrm>
              <a:off x="4067280" y="4249800"/>
              <a:ext cx="144468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10"/>
            <a:stretch/>
          </p:blipFill>
          <p:spPr>
            <a:xfrm rot="7057800">
              <a:off x="5795280" y="4149360"/>
              <a:ext cx="76212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"/>
          <p:cNvSpPr/>
          <p:nvPr/>
        </p:nvSpPr>
        <p:spPr>
          <a:xfrm>
            <a:off x="792000" y="1557360"/>
            <a:ext cx="8352000" cy="23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Unit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Lesson 10 The U.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260280"/>
            <a:ext cx="77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五年级上册英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0" y="274320"/>
            <a:ext cx="44640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米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”字旗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五星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”红旗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枫叶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”旗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星条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”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-360"/>
            <a:ext cx="363528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Times New Roman"/>
              </a:rPr>
              <a:t>Chin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Times New Roman"/>
              </a:rPr>
              <a:t>Canad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Times New Roman"/>
              </a:rPr>
              <a:t>The U.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Times New Roman"/>
              </a:rPr>
              <a:t>The U.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627280" y="692280"/>
            <a:ext cx="2305080" cy="172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32000" y="1844640"/>
            <a:ext cx="1944720" cy="187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32000" y="3213000"/>
            <a:ext cx="2087640" cy="201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132000" y="1484280"/>
            <a:ext cx="2087640" cy="2665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020000" y="3429000"/>
            <a:ext cx="2124000" cy="14508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403848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Chin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Canad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The U.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The U.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164360" y="1628640"/>
            <a:ext cx="1979640" cy="1316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7164360" y="5084640"/>
            <a:ext cx="1979640" cy="1268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7093080" y="189000"/>
            <a:ext cx="2050920" cy="122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916360" y="836640"/>
            <a:ext cx="3960720" cy="2879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08360" y="2133720"/>
            <a:ext cx="30956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64000" y="3213000"/>
            <a:ext cx="3240000" cy="2303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708360" y="836280"/>
            <a:ext cx="3240000" cy="3384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108000" y="0"/>
          <a:ext cx="9036000" cy="6958080"/>
        </p:xfrm>
        <a:graphic>
          <a:graphicData uri="http://schemas.openxmlformats.org/drawingml/2006/table">
            <a:tbl>
              <a:tblPr/>
              <a:tblGrid>
                <a:gridCol w="1439640"/>
                <a:gridCol w="1800360"/>
                <a:gridCol w="2160720"/>
                <a:gridCol w="2158920"/>
                <a:gridCol w="147636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nt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ital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a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名胜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ngu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hi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Beij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’s red. It has five yellow sta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Tian’ an men Squ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The Palace Muse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Chin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anada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Ottaw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’s red and white. It has a leaf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Niagara  Fa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the Rocky Mounta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Engli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Fren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he U.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Washington D.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’s  red  blue  and white. It  has  stars and  strip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The White Ho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The Statue of  Liber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he U.K</a:t>
                      </a: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ond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’s red  blue  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te. It’s the same colour as the flag of the U.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105520" y="40053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564000" y="0"/>
            <a:ext cx="5580000" cy="3718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3753000"/>
            <a:ext cx="8964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he U.K has a king or a quee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his is a queen. Kings and que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live in palace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his is Buckingham Palace in London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伊丽莎白二世"/>
          <p:cNvPicPr/>
          <p:nvPr/>
        </p:nvPicPr>
        <p:blipFill>
          <a:blip r:embed="rId2"/>
          <a:stretch/>
        </p:blipFill>
        <p:spPr>
          <a:xfrm>
            <a:off x="0" y="0"/>
            <a:ext cx="35640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906 0.01692 L -0.06979 0.01182 E">
                                      <p:cBhvr>
                                        <p:cTn id="122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白金汉宫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54000" y="2473560"/>
            <a:ext cx="925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白金汉宫位于圣詹姆士公园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St. James’ Park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西端，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70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白金汉公爵兴建而得名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72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由乔治三世购得，曾一度做过帝国纪念堂、美术陈列馆、办公厅和藏金库，直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82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改建成王宫建筑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83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维多利亚女王继位起正式成为王宫，现仍是伊丽沙白女王的王室住地。女王召见首相、大臣，接待和宴请外国客人及其他重要外交活动都在此举行。白金汉宫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93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用石料装饰了外墙面，最近的一次外墙清洗使王宫重放异彩，但给人们印象最深的还是其内部。王宫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0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个厅室，收藏有许多绘画和精美的红木家具，艺术馆大厅内专门陈列英国历代王朝帝后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幅画像和半身雕像，营造出一种十八、十九世纪英格兰的氛围。宫前广场上竖有胜利女神金像和维多利亚女王坐像，此外还辟有一座占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英亩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公顷）的御花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14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巩固写作练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9280" y="907920"/>
          <a:ext cx="8964720" cy="5977080"/>
        </p:xfrm>
        <a:graphic>
          <a:graphicData uri="http://schemas.openxmlformats.org/drawingml/2006/table">
            <a:tbl>
              <a:tblPr/>
              <a:tblGrid>
                <a:gridCol w="576360"/>
                <a:gridCol w="2303640"/>
                <a:gridCol w="2089080"/>
                <a:gridCol w="1944720"/>
                <a:gridCol w="2050920"/>
              </a:tblGrid>
              <a:tr h="204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国家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ta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a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胜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古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guag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美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hington D.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英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do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 txBox="1"/>
          <p:nvPr/>
        </p:nvSpPr>
        <p:spPr>
          <a:xfrm>
            <a:off x="5105520" y="-36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03640" y="2997360"/>
            <a:ext cx="1727280" cy="1728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5219640" y="4869000"/>
            <a:ext cx="1873440" cy="1728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5219640" y="2997360"/>
            <a:ext cx="1873440" cy="1726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3059280" y="4741920"/>
            <a:ext cx="208908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2700360" y="2060640"/>
            <a:ext cx="53276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Thank you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1200" y="188640"/>
            <a:ext cx="8002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学习目标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96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知识目标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学习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U.K.”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以及关于英国的相关常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能力目标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可以读、写、说出并且听懂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U.K.”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，能用英语向他人介绍有关英国的知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情感目标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激发学生 对英语的持久兴趣，培养运用语言进行交际的能力，了解中西文化的差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教学重点、难点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能用英语向其他人简单介绍</a:t>
            </a:r>
            <a:r>
              <a:rPr b="0" lang="zh-CN" sz="6600" spc="-1" strike="noStrike">
                <a:solidFill>
                  <a:srgbClr val="ff3300"/>
                </a:solidFill>
                <a:latin typeface="Arial"/>
              </a:rPr>
              <a:t>英国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这个国家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301320"/>
            <a:ext cx="84582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A map of the U.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95640" y="1773360"/>
            <a:ext cx="25416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268280"/>
            <a:ext cx="4238640" cy="51134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This is a map of the United Kingdo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London is the capital city of the </a:t>
            </a: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U.K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The U.K is west and a little north of Chin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They speak English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2130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Here ‘s the U.K’s flag. It’s red, white and blue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It’s the same colour as the flag of the U.S . 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19280" y="46080"/>
            <a:ext cx="698508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914400" y="1905120"/>
            <a:ext cx="73915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50022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476360" y="0"/>
            <a:ext cx="6248520" cy="1660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916360" y="40464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课 堂 练 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628640"/>
            <a:ext cx="8964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看图回答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 country’s  flag are they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6516720" y="4221000"/>
            <a:ext cx="1511280" cy="1136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020000" y="3068640"/>
            <a:ext cx="1584360" cy="9842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5508720" y="1700280"/>
            <a:ext cx="1655640" cy="11127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4356000" y="5516640"/>
            <a:ext cx="2232000" cy="1146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14400" y="1905120"/>
            <a:ext cx="73915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50022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476360" y="0"/>
            <a:ext cx="6248520" cy="16606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916360" y="40464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imes New Roman"/>
                <a:ea typeface="隶书"/>
              </a:rPr>
              <a:t>课 堂 练 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628640"/>
            <a:ext cx="89647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看图回答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What country is thi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What do they speak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Where are they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What’s the capital c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 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hat flag are they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219640" y="206064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364000" y="2924280"/>
            <a:ext cx="1872000" cy="12286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6877080" y="4221000"/>
            <a:ext cx="1798560" cy="1449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5076720" y="5346720"/>
            <a:ext cx="1300320" cy="1511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7164360" y="1268280"/>
            <a:ext cx="1643040" cy="1586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01:31:21Z</dcterms:created>
  <dc:creator/>
  <dc:description/>
  <dc:language>en-US</dc:language>
  <cp:lastModifiedBy>China</cp:lastModifiedBy>
  <dcterms:modified xsi:type="dcterms:W3CDTF">2018-08-17T04:30:24Z</dcterms:modified>
  <cp:revision>1</cp:revision>
  <dc:subject/>
  <dc:title>Unit 1    My Famil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006000000000001024120</vt:lpwstr>
  </property>
</Properties>
</file>